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0FF-4F63-4F61-B65A-CF814434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710-5106-43A7-9283-C6E0A1C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8A4-F8F6-4AC2-B27C-DA7A54C2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020-0408-4AD5-8681-A1337AAA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ADF-6811-4023-841F-0226F4FC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26E-BD6F-4540-BA68-7C9852E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06B-7B5A-4A94-B49E-A0D00CA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7BB-18F0-4507-85F9-FEFE54C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44E-CC15-4AE3-A6A0-622127A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B333-7AE2-42EA-A2B3-54F674E0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178F-6431-4A4F-AD93-0E13D9B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165-E8DC-4FE4-A9AE-C3702A59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290-2B96-464D-99AC-B89867C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696-B7F4-4994-AD0B-998167DD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92B-E728-4AD1-A4F8-65AF1A9E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783-31DD-4959-98B5-728F4B7E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B19-7515-40CD-A19B-0BBB1672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F3-582D-41AE-8335-7115AEE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F54-8CF8-4BF6-8DF3-5DEF149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1A3-3235-4258-81F7-9D8DAF1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143-18AB-4B5A-B333-BAB07A22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3B8-377A-408D-BE30-F1EA03A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B7B-D29B-4C0A-8B2F-F7DE13A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EB1-97A0-4C63-A5E1-99D7FD1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779-ECBD-4EA1-9C3D-68CE7F576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9566-C10E-4FA6-BB92-F7BD6EDA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41FE-FDB5-4A59-923B-7207570A3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5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4680" y="2273400"/>
            <a:ext cx="61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ngle Formul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758-4406-481A-9DAF-3B8C121C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rior Angle Theorem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97" name="Object 46"/>
          <p:cNvGraphicFramePr/>
          <p:nvPr/>
        </p:nvGraphicFramePr>
        <p:xfrm>
          <a:off x="311040" y="2635200"/>
          <a:ext cx="50961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635200"/>
                    <a:ext cx="50961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26"/>
          <p:cNvSpPr/>
          <p:nvPr/>
        </p:nvSpPr>
        <p:spPr>
          <a:xfrm>
            <a:off x="1919160" y="182736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that are formed by two intersecting ch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423720" y="1827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5649840" y="3341520"/>
            <a:ext cx="166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262080" y="4656240"/>
            <a:ext cx="84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the angle formed by the two intersecting chords is equal to ½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easures of the intercepted ar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289080" y="41482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ior Angle 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35"/>
          <p:cNvGrpSpPr/>
          <p:nvPr/>
        </p:nvGrpSpPr>
        <p:grpSpPr>
          <a:xfrm>
            <a:off x="5549760" y="2216160"/>
            <a:ext cx="2819520" cy="2362320"/>
            <a:chOff x="5549760" y="2216160"/>
            <a:chExt cx="2819520" cy="2362320"/>
          </a:xfrm>
        </p:grpSpPr>
        <p:sp>
          <p:nvSpPr>
            <p:cNvPr id="305" name="Oval 36"/>
            <p:cNvSpPr/>
            <p:nvPr/>
          </p:nvSpPr>
          <p:spPr>
            <a:xfrm>
              <a:off x="5702400" y="2368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7"/>
            <p:cNvSpPr/>
            <p:nvPr/>
          </p:nvSpPr>
          <p:spPr>
            <a:xfrm>
              <a:off x="6159600" y="2597400"/>
              <a:ext cx="1828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8"/>
            <p:cNvSpPr/>
            <p:nvPr/>
          </p:nvSpPr>
          <p:spPr>
            <a:xfrm flipH="1">
              <a:off x="5931000" y="2826000"/>
              <a:ext cx="182880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39"/>
            <p:cNvSpPr/>
            <p:nvPr/>
          </p:nvSpPr>
          <p:spPr>
            <a:xfrm>
              <a:off x="6692760" y="3054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40"/>
            <p:cNvSpPr/>
            <p:nvPr/>
          </p:nvSpPr>
          <p:spPr>
            <a:xfrm>
              <a:off x="5854680" y="221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41"/>
            <p:cNvSpPr/>
            <p:nvPr/>
          </p:nvSpPr>
          <p:spPr>
            <a:xfrm>
              <a:off x="7988400" y="351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5549760" y="4044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3"/>
            <p:cNvSpPr/>
            <p:nvPr/>
          </p:nvSpPr>
          <p:spPr>
            <a:xfrm>
              <a:off x="7835760" y="2521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44"/>
          <p:cNvSpPr/>
          <p:nvPr/>
        </p:nvSpPr>
        <p:spPr>
          <a:xfrm>
            <a:off x="7015320" y="3235320"/>
            <a:ext cx="2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7342200" y="30020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48"/>
          <p:cNvGraphicFramePr/>
          <p:nvPr/>
        </p:nvGraphicFramePr>
        <p:xfrm>
          <a:off x="2908440" y="5438880"/>
          <a:ext cx="354780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8440" y="5438880"/>
                    <a:ext cx="3547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47A-2D3D-4E41-9C8A-3AF81ED3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4"/>
          <p:cNvSpPr/>
          <p:nvPr/>
        </p:nvSpPr>
        <p:spPr>
          <a:xfrm>
            <a:off x="468360" y="2527200"/>
            <a:ext cx="3409920" cy="3333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459080" y="2698920"/>
            <a:ext cx="2190600" cy="23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1153800" y="3575160"/>
            <a:ext cx="2590920" cy="19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135080" y="2222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592440" y="4946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726000" y="32511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773280" y="54990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2739960" y="3728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2544840" y="2146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1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2278080" y="57895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5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Interior Angle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4165560" y="2365200"/>
            <a:ext cx="447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18"/>
          <p:cNvGraphicFramePr/>
          <p:nvPr/>
        </p:nvGraphicFramePr>
        <p:xfrm>
          <a:off x="4896000" y="1793880"/>
          <a:ext cx="32860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1793880"/>
                    <a:ext cx="32860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9"/>
          <p:cNvGraphicFramePr/>
          <p:nvPr/>
        </p:nvGraphicFramePr>
        <p:xfrm>
          <a:off x="4800600" y="3979800"/>
          <a:ext cx="150012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979800"/>
                    <a:ext cx="1500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20"/>
          <p:cNvSpPr/>
          <p:nvPr/>
        </p:nvSpPr>
        <p:spPr>
          <a:xfrm>
            <a:off x="2378160" y="39672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Object 21"/>
          <p:cNvGraphicFramePr/>
          <p:nvPr/>
        </p:nvGraphicFramePr>
        <p:xfrm>
          <a:off x="4748040" y="4651200"/>
          <a:ext cx="312444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8040" y="4651200"/>
                    <a:ext cx="312444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22"/>
          <p:cNvGraphicFramePr/>
          <p:nvPr/>
        </p:nvGraphicFramePr>
        <p:xfrm>
          <a:off x="4869000" y="5437080"/>
          <a:ext cx="1476360" cy="71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9000" y="5437080"/>
                    <a:ext cx="14763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C6F-7F39-4F0E-BAF4-0F9A56F79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13960" y="531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Exterior Angles</a:t>
            </a:r>
            <a:endParaRPr b="0" lang="en-US" sz="4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3" name="Text Box 29"/>
          <p:cNvSpPr/>
          <p:nvPr/>
        </p:nvSpPr>
        <p:spPr>
          <a:xfrm>
            <a:off x="372960" y="1976400"/>
            <a:ext cx="81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formed by two secants, two tangents, or a secant and a tangent drawn from a point outside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75"/>
          <p:cNvGrpSpPr/>
          <p:nvPr/>
        </p:nvGrpSpPr>
        <p:grpSpPr>
          <a:xfrm>
            <a:off x="469800" y="3006720"/>
            <a:ext cx="7780320" cy="2487600"/>
            <a:chOff x="469800" y="3006720"/>
            <a:chExt cx="7780320" cy="2487600"/>
          </a:xfrm>
        </p:grpSpPr>
        <p:sp>
          <p:nvSpPr>
            <p:cNvPr id="345" name="AutoShape 74"/>
            <p:cNvSpPr/>
            <p:nvPr/>
          </p:nvSpPr>
          <p:spPr>
            <a:xfrm>
              <a:off x="469800" y="3006720"/>
              <a:ext cx="778032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76"/>
            <p:cNvSpPr/>
            <p:nvPr/>
          </p:nvSpPr>
          <p:spPr>
            <a:xfrm>
              <a:off x="5940360" y="3363120"/>
              <a:ext cx="1535760" cy="15357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77"/>
            <p:cNvSpPr/>
            <p:nvPr/>
          </p:nvSpPr>
          <p:spPr>
            <a:xfrm>
              <a:off x="3006720" y="3105720"/>
              <a:ext cx="1535760" cy="15357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78"/>
            <p:cNvSpPr/>
            <p:nvPr/>
          </p:nvSpPr>
          <p:spPr>
            <a:xfrm>
              <a:off x="688320" y="3193920"/>
              <a:ext cx="1377720" cy="137808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9"/>
            <p:cNvSpPr/>
            <p:nvPr/>
          </p:nvSpPr>
          <p:spPr>
            <a:xfrm>
              <a:off x="588960" y="3293280"/>
              <a:ext cx="1961640" cy="4071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0"/>
            <p:cNvSpPr/>
            <p:nvPr/>
          </p:nvSpPr>
          <p:spPr>
            <a:xfrm flipH="1">
              <a:off x="767160" y="3700800"/>
              <a:ext cx="1783440" cy="9813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81"/>
            <p:cNvSpPr/>
            <p:nvPr/>
          </p:nvSpPr>
          <p:spPr>
            <a:xfrm>
              <a:off x="2837880" y="3193920"/>
              <a:ext cx="2270160" cy="5659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82"/>
            <p:cNvSpPr/>
            <p:nvPr/>
          </p:nvSpPr>
          <p:spPr>
            <a:xfrm flipH="1">
              <a:off x="3472920" y="3759840"/>
              <a:ext cx="1634760" cy="13870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3"/>
            <p:cNvSpPr/>
            <p:nvPr/>
          </p:nvSpPr>
          <p:spPr>
            <a:xfrm>
              <a:off x="6545160" y="3193920"/>
              <a:ext cx="1565280" cy="7441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4"/>
            <p:cNvSpPr/>
            <p:nvPr/>
          </p:nvSpPr>
          <p:spPr>
            <a:xfrm flipH="1">
              <a:off x="6504480" y="3938040"/>
              <a:ext cx="1605600" cy="14162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85"/>
            <p:cNvSpPr/>
            <p:nvPr/>
          </p:nvSpPr>
          <p:spPr>
            <a:xfrm>
              <a:off x="7683840" y="37893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86"/>
            <p:cNvSpPr/>
            <p:nvPr/>
          </p:nvSpPr>
          <p:spPr>
            <a:xfrm>
              <a:off x="7070040" y="3858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87"/>
            <p:cNvSpPr/>
            <p:nvPr/>
          </p:nvSpPr>
          <p:spPr>
            <a:xfrm>
              <a:off x="7264800" y="382932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8"/>
            <p:cNvSpPr/>
            <p:nvPr/>
          </p:nvSpPr>
          <p:spPr>
            <a:xfrm>
              <a:off x="5523120" y="3917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89"/>
            <p:cNvSpPr/>
            <p:nvPr/>
          </p:nvSpPr>
          <p:spPr>
            <a:xfrm>
              <a:off x="5728680" y="388836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90"/>
            <p:cNvSpPr/>
            <p:nvPr/>
          </p:nvSpPr>
          <p:spPr>
            <a:xfrm>
              <a:off x="4611960" y="3660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91"/>
            <p:cNvSpPr/>
            <p:nvPr/>
          </p:nvSpPr>
          <p:spPr>
            <a:xfrm>
              <a:off x="4146840" y="369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92"/>
            <p:cNvSpPr/>
            <p:nvPr/>
          </p:nvSpPr>
          <p:spPr>
            <a:xfrm>
              <a:off x="4339800" y="366084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93"/>
            <p:cNvSpPr/>
            <p:nvPr/>
          </p:nvSpPr>
          <p:spPr>
            <a:xfrm>
              <a:off x="2639160" y="3809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94"/>
            <p:cNvSpPr/>
            <p:nvPr/>
          </p:nvSpPr>
          <p:spPr>
            <a:xfrm>
              <a:off x="2844360" y="378000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95"/>
            <p:cNvSpPr/>
            <p:nvPr/>
          </p:nvSpPr>
          <p:spPr>
            <a:xfrm>
              <a:off x="2143800" y="3631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96"/>
            <p:cNvSpPr/>
            <p:nvPr/>
          </p:nvSpPr>
          <p:spPr>
            <a:xfrm>
              <a:off x="766080" y="37893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97"/>
            <p:cNvSpPr/>
            <p:nvPr/>
          </p:nvSpPr>
          <p:spPr>
            <a:xfrm>
              <a:off x="970920" y="375804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98"/>
            <p:cNvSpPr/>
            <p:nvPr/>
          </p:nvSpPr>
          <p:spPr>
            <a:xfrm>
              <a:off x="1747080" y="3660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9"/>
            <p:cNvSpPr/>
            <p:nvPr/>
          </p:nvSpPr>
          <p:spPr>
            <a:xfrm>
              <a:off x="1942560" y="3631320"/>
              <a:ext cx="9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100"/>
            <p:cNvSpPr/>
            <p:nvPr/>
          </p:nvSpPr>
          <p:spPr>
            <a:xfrm>
              <a:off x="1351440" y="38588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101"/>
            <p:cNvSpPr/>
            <p:nvPr/>
          </p:nvSpPr>
          <p:spPr>
            <a:xfrm>
              <a:off x="837000" y="34034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02"/>
            <p:cNvSpPr/>
            <p:nvPr/>
          </p:nvSpPr>
          <p:spPr>
            <a:xfrm>
              <a:off x="568800" y="32745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Oval 103"/>
            <p:cNvSpPr/>
            <p:nvPr/>
          </p:nvSpPr>
          <p:spPr>
            <a:xfrm>
              <a:off x="2530800" y="36806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104"/>
            <p:cNvSpPr/>
            <p:nvPr/>
          </p:nvSpPr>
          <p:spPr>
            <a:xfrm>
              <a:off x="747000" y="46616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05"/>
            <p:cNvSpPr/>
            <p:nvPr/>
          </p:nvSpPr>
          <p:spPr>
            <a:xfrm>
              <a:off x="3750480" y="3849840"/>
              <a:ext cx="496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106"/>
            <p:cNvSpPr/>
            <p:nvPr/>
          </p:nvSpPr>
          <p:spPr>
            <a:xfrm>
              <a:off x="3047040" y="3541320"/>
              <a:ext cx="4968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107"/>
            <p:cNvSpPr/>
            <p:nvPr/>
          </p:nvSpPr>
          <p:spPr>
            <a:xfrm>
              <a:off x="2819160" y="31752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8"/>
            <p:cNvSpPr/>
            <p:nvPr/>
          </p:nvSpPr>
          <p:spPr>
            <a:xfrm>
              <a:off x="5088240" y="37396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109"/>
            <p:cNvSpPr/>
            <p:nvPr/>
          </p:nvSpPr>
          <p:spPr>
            <a:xfrm>
              <a:off x="3453120" y="512676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10"/>
            <p:cNvSpPr/>
            <p:nvPr/>
          </p:nvSpPr>
          <p:spPr>
            <a:xfrm>
              <a:off x="6684480" y="41072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11"/>
            <p:cNvSpPr/>
            <p:nvPr/>
          </p:nvSpPr>
          <p:spPr>
            <a:xfrm>
              <a:off x="6019560" y="448344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12"/>
            <p:cNvSpPr/>
            <p:nvPr/>
          </p:nvSpPr>
          <p:spPr>
            <a:xfrm>
              <a:off x="6525000" y="31752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13"/>
            <p:cNvSpPr/>
            <p:nvPr/>
          </p:nvSpPr>
          <p:spPr>
            <a:xfrm>
              <a:off x="8091720" y="39178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14"/>
            <p:cNvSpPr/>
            <p:nvPr/>
          </p:nvSpPr>
          <p:spPr>
            <a:xfrm>
              <a:off x="6486480" y="533628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Text Box 115"/>
          <p:cNvSpPr/>
          <p:nvPr/>
        </p:nvSpPr>
        <p:spPr>
          <a:xfrm>
            <a:off x="217440" y="500688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o sec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6"/>
          <p:cNvSpPr/>
          <p:nvPr/>
        </p:nvSpPr>
        <p:spPr>
          <a:xfrm>
            <a:off x="2409840" y="548496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secant and a tan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7"/>
          <p:cNvSpPr/>
          <p:nvPr/>
        </p:nvSpPr>
        <p:spPr>
          <a:xfrm>
            <a:off x="7140600" y="50385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 tan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C84A-E1E6-4502-9694-13C92FA2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terior Angle Theorem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391" name="Object 8"/>
          <p:cNvGraphicFramePr/>
          <p:nvPr/>
        </p:nvGraphicFramePr>
        <p:xfrm>
          <a:off x="2190600" y="27766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776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0"/>
          <p:cNvGraphicFramePr/>
          <p:nvPr/>
        </p:nvGraphicFramePr>
        <p:xfrm>
          <a:off x="285840" y="5219640"/>
          <a:ext cx="23828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5219640"/>
                    <a:ext cx="23828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2"/>
          <p:cNvGraphicFramePr/>
          <p:nvPr/>
        </p:nvGraphicFramePr>
        <p:xfrm>
          <a:off x="3417840" y="5183280"/>
          <a:ext cx="2102040" cy="95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7840" y="5183280"/>
                    <a:ext cx="21020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6" descr=""/>
          <p:cNvPicPr/>
          <p:nvPr/>
        </p:nvPicPr>
        <p:blipFill>
          <a:blip r:embed="rId7"/>
          <a:stretch/>
        </p:blipFill>
        <p:spPr>
          <a:xfrm>
            <a:off x="311040" y="2730600"/>
            <a:ext cx="8521920" cy="27241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533520" y="1847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sure of the angle formed is equal to ½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tercepted ar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Object 14"/>
          <p:cNvGraphicFramePr/>
          <p:nvPr/>
        </p:nvGraphicFramePr>
        <p:xfrm>
          <a:off x="6435720" y="5243400"/>
          <a:ext cx="2208240" cy="99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5720" y="5243400"/>
                    <a:ext cx="22082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B60A-542C-4E7B-8166-D6E2ED63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Exterior Angle Theorem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404" name="Object 7"/>
          <p:cNvGraphicFramePr/>
          <p:nvPr/>
        </p:nvGraphicFramePr>
        <p:xfrm>
          <a:off x="382680" y="1903320"/>
          <a:ext cx="826272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903320"/>
                    <a:ext cx="82627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Picture 8" descr=""/>
          <p:cNvPicPr/>
          <p:nvPr/>
        </p:nvPicPr>
        <p:blipFill>
          <a:blip r:embed="rId3"/>
          <a:stretch/>
        </p:blipFill>
        <p:spPr>
          <a:xfrm>
            <a:off x="0" y="2576520"/>
            <a:ext cx="4532400" cy="392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Object 12"/>
          <p:cNvGraphicFramePr/>
          <p:nvPr/>
        </p:nvGraphicFramePr>
        <p:xfrm>
          <a:off x="4286160" y="2784600"/>
          <a:ext cx="4857840" cy="32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6160" y="2784600"/>
                    <a:ext cx="485784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F30-BF71-453C-AC74-59BE0270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97"/>
          <p:cNvGraphicFramePr/>
          <p:nvPr/>
        </p:nvGraphicFramePr>
        <p:xfrm>
          <a:off x="311040" y="646200"/>
          <a:ext cx="849636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646200"/>
                    <a:ext cx="8496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Group 92"/>
          <p:cNvGrpSpPr/>
          <p:nvPr/>
        </p:nvGrpSpPr>
        <p:grpSpPr>
          <a:xfrm>
            <a:off x="0" y="2487600"/>
            <a:ext cx="3801600" cy="3945960"/>
            <a:chOff x="0" y="2487600"/>
            <a:chExt cx="3801600" cy="3945960"/>
          </a:xfrm>
        </p:grpSpPr>
        <p:grpSp>
          <p:nvGrpSpPr>
            <p:cNvPr id="414" name="Group 88"/>
            <p:cNvGrpSpPr/>
            <p:nvPr/>
          </p:nvGrpSpPr>
          <p:grpSpPr>
            <a:xfrm>
              <a:off x="353880" y="2487600"/>
              <a:ext cx="3447720" cy="3945960"/>
              <a:chOff x="353880" y="2487600"/>
              <a:chExt cx="3447720" cy="3945960"/>
            </a:xfrm>
          </p:grpSpPr>
          <p:sp>
            <p:nvSpPr>
              <p:cNvPr id="415" name="Oval 61"/>
              <p:cNvSpPr/>
              <p:nvPr/>
            </p:nvSpPr>
            <p:spPr>
              <a:xfrm>
                <a:off x="353880" y="3306600"/>
                <a:ext cx="2666880" cy="268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3"/>
              <p:cNvSpPr/>
              <p:nvPr/>
            </p:nvSpPr>
            <p:spPr>
              <a:xfrm>
                <a:off x="353880" y="465948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64"/>
              <p:cNvSpPr/>
              <p:nvPr/>
            </p:nvSpPr>
            <p:spPr>
              <a:xfrm flipV="1">
                <a:off x="353880" y="2849400"/>
                <a:ext cx="2952720" cy="181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65"/>
              <p:cNvSpPr/>
              <p:nvPr/>
            </p:nvSpPr>
            <p:spPr>
              <a:xfrm flipV="1">
                <a:off x="2030040" y="2849040"/>
                <a:ext cx="1276560" cy="308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66"/>
              <p:cNvSpPr/>
              <p:nvPr/>
            </p:nvSpPr>
            <p:spPr>
              <a:xfrm>
                <a:off x="1591920" y="4583160"/>
                <a:ext cx="133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Line 67"/>
              <p:cNvSpPr/>
              <p:nvPr/>
            </p:nvSpPr>
            <p:spPr>
              <a:xfrm flipH="1" flipV="1">
                <a:off x="1668240" y="4640040"/>
                <a:ext cx="342720" cy="127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Text Box 71"/>
              <p:cNvSpPr/>
              <p:nvPr/>
            </p:nvSpPr>
            <p:spPr>
              <a:xfrm>
                <a:off x="1477800" y="418320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Text Box 72"/>
              <p:cNvSpPr/>
              <p:nvPr/>
            </p:nvSpPr>
            <p:spPr>
              <a:xfrm>
                <a:off x="1896840" y="59738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3020760" y="446868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3325680" y="248760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Text Box 75"/>
              <p:cNvSpPr/>
              <p:nvPr/>
            </p:nvSpPr>
            <p:spPr>
              <a:xfrm>
                <a:off x="2868480" y="376380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76"/>
              <p:cNvSpPr/>
              <p:nvPr/>
            </p:nvSpPr>
            <p:spPr>
              <a:xfrm>
                <a:off x="2068200" y="30020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7"/>
              <p:cNvSpPr/>
              <p:nvPr/>
            </p:nvSpPr>
            <p:spPr>
              <a:xfrm>
                <a:off x="1725480" y="46022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Text Box 78"/>
              <p:cNvSpPr/>
              <p:nvPr/>
            </p:nvSpPr>
            <p:spPr>
              <a:xfrm>
                <a:off x="1387080" y="45734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79"/>
              <p:cNvSpPr/>
              <p:nvPr/>
            </p:nvSpPr>
            <p:spPr>
              <a:xfrm>
                <a:off x="734760" y="425916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Text Box 80"/>
              <p:cNvSpPr/>
              <p:nvPr/>
            </p:nvSpPr>
            <p:spPr>
              <a:xfrm>
                <a:off x="2449080" y="460224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81"/>
              <p:cNvSpPr/>
              <p:nvPr/>
            </p:nvSpPr>
            <p:spPr>
              <a:xfrm>
                <a:off x="2601720" y="424008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82"/>
              <p:cNvSpPr/>
              <p:nvPr/>
            </p:nvSpPr>
            <p:spPr>
              <a:xfrm>
                <a:off x="2844360" y="2959200"/>
                <a:ext cx="476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Text Box 91"/>
            <p:cNvSpPr/>
            <p:nvPr/>
          </p:nvSpPr>
          <p:spPr>
            <a:xfrm>
              <a:off x="0" y="44164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4" name="Object 100"/>
          <p:cNvGraphicFramePr/>
          <p:nvPr/>
        </p:nvGraphicFramePr>
        <p:xfrm>
          <a:off x="3527280" y="2035080"/>
          <a:ext cx="5442120" cy="38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2035080"/>
                    <a:ext cx="5442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 Box 103"/>
          <p:cNvSpPr/>
          <p:nvPr/>
        </p:nvSpPr>
        <p:spPr>
          <a:xfrm>
            <a:off x="432000" y="57420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4"/>
          <p:cNvSpPr/>
          <p:nvPr/>
        </p:nvSpPr>
        <p:spPr>
          <a:xfrm>
            <a:off x="2484720" y="33354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05"/>
          <p:cNvSpPr/>
          <p:nvPr/>
        </p:nvSpPr>
        <p:spPr>
          <a:xfrm>
            <a:off x="2957760" y="40845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F6F9-3726-46D6-B664-E6DE8C58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692280" y="615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cribed Quadrilater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4309920" y="4226040"/>
            <a:ext cx="438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B +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B = 18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C +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C = 18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78000" y="180036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quadrilateral is inscribed in a circle, then the opposite angles are supplem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0" descr=""/>
          <p:cNvPicPr/>
          <p:nvPr/>
        </p:nvPicPr>
        <p:blipFill>
          <a:blip r:embed="rId1"/>
          <a:stretch/>
        </p:blipFill>
        <p:spPr>
          <a:xfrm>
            <a:off x="555480" y="2801880"/>
            <a:ext cx="35578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261-828B-42FD-83CE-CC3F1266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65160" y="46195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1042920" y="2690640"/>
            <a:ext cx="1752840" cy="1752840"/>
            <a:chOff x="1042920" y="2690640"/>
            <a:chExt cx="1752840" cy="1752840"/>
          </a:xfrm>
        </p:grpSpPr>
        <p:sp>
          <p:nvSpPr>
            <p:cNvPr id="98" name="Oval 12"/>
            <p:cNvSpPr/>
            <p:nvPr/>
          </p:nvSpPr>
          <p:spPr>
            <a:xfrm>
              <a:off x="1042920" y="2690640"/>
              <a:ext cx="1752840" cy="175284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>
              <a:off x="1881360" y="3529080"/>
              <a:ext cx="75960" cy="759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>
              <a:off x="1957320" y="3605040"/>
              <a:ext cx="533520" cy="609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1928880" y="2766960"/>
              <a:ext cx="333360" cy="81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rc 16"/>
            <p:cNvSpPr/>
            <p:nvPr/>
          </p:nvSpPr>
          <p:spPr>
            <a:xfrm flipH="1" flipV="1" rot="14074200">
              <a:off x="1832400" y="3371040"/>
              <a:ext cx="401400" cy="421920"/>
            </a:xfrm>
            <a:custGeom>
              <a:avLst/>
              <a:gdLst/>
              <a:ahLst/>
              <a:rect l="l" t="t" r="r" b="b"/>
              <a:pathLst>
                <a:path fill="none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</a:path>
                <a:path stroke="0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23"/>
          <p:cNvGrpSpPr/>
          <p:nvPr/>
        </p:nvGrpSpPr>
        <p:grpSpPr>
          <a:xfrm>
            <a:off x="3591000" y="2719440"/>
            <a:ext cx="1676160" cy="1676520"/>
            <a:chOff x="3591000" y="2719440"/>
            <a:chExt cx="1676160" cy="1676520"/>
          </a:xfrm>
        </p:grpSpPr>
        <p:sp>
          <p:nvSpPr>
            <p:cNvPr id="104" name="Oval 18"/>
            <p:cNvSpPr/>
            <p:nvPr/>
          </p:nvSpPr>
          <p:spPr>
            <a:xfrm>
              <a:off x="3591000" y="2719440"/>
              <a:ext cx="1676160" cy="16765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4470480" y="2768760"/>
              <a:ext cx="13320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0"/>
            <p:cNvSpPr/>
            <p:nvPr/>
          </p:nvSpPr>
          <p:spPr>
            <a:xfrm flipH="1">
              <a:off x="4419000" y="3535560"/>
              <a:ext cx="75960" cy="763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3723840" y="3583080"/>
              <a:ext cx="709560" cy="4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5"/>
          <p:cNvSpPr/>
          <p:nvPr/>
        </p:nvSpPr>
        <p:spPr>
          <a:xfrm>
            <a:off x="3505320" y="4648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6110280" y="2714760"/>
            <a:ext cx="1752480" cy="1752480"/>
            <a:chOff x="6110280" y="2714760"/>
            <a:chExt cx="1752480" cy="1752480"/>
          </a:xfrm>
        </p:grpSpPr>
        <p:sp>
          <p:nvSpPr>
            <p:cNvPr id="110" name="Oval 26"/>
            <p:cNvSpPr/>
            <p:nvPr/>
          </p:nvSpPr>
          <p:spPr>
            <a:xfrm>
              <a:off x="6110280" y="2714760"/>
              <a:ext cx="1752480" cy="1752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7"/>
            <p:cNvSpPr/>
            <p:nvPr/>
          </p:nvSpPr>
          <p:spPr>
            <a:xfrm>
              <a:off x="6948360" y="3552840"/>
              <a:ext cx="7560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V="1">
              <a:off x="6440400" y="2781360"/>
              <a:ext cx="333000" cy="811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9"/>
            <p:cNvSpPr/>
            <p:nvPr/>
          </p:nvSpPr>
          <p:spPr>
            <a:xfrm>
              <a:off x="6454440" y="3591000"/>
              <a:ext cx="785520" cy="820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30"/>
            <p:cNvSpPr/>
            <p:nvPr/>
          </p:nvSpPr>
          <p:spPr>
            <a:xfrm flipH="1" flipV="1" rot="14074200">
              <a:off x="6320880" y="3377160"/>
              <a:ext cx="485640" cy="434880"/>
            </a:xfrm>
            <a:custGeom>
              <a:avLst/>
              <a:gdLst/>
              <a:ahLst/>
              <a:rect l="l" t="t" r="r" b="b"/>
              <a:pathLst>
                <a:path fill="none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</a:path>
                <a:path stroke="0" w="19756" h="21600">
                  <a:moveTo>
                    <a:pt x="-1" y="0"/>
                  </a:moveTo>
                  <a:cubicBezTo>
                    <a:pt x="8551" y="0"/>
                    <a:pt x="16298" y="5045"/>
                    <a:pt x="19755" y="128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32"/>
          <p:cNvSpPr/>
          <p:nvPr/>
        </p:nvSpPr>
        <p:spPr>
          <a:xfrm>
            <a:off x="6019920" y="4608360"/>
            <a:ext cx="190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ral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f a cir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959120" y="1987560"/>
            <a:ext cx="67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whose vertex lies on the center of the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290520" y="1973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F79-2D25-45F2-B5B1-4F6598F9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Times New Roman"/>
              </a:rPr>
              <a:t>Central Angle Theorem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2080" y="1782720"/>
            <a:ext cx="84661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center angle is equal to the measure of the intercepted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0"/>
          <p:cNvGraphicFramePr/>
          <p:nvPr/>
        </p:nvGraphicFramePr>
        <p:xfrm>
          <a:off x="2289240" y="3073320"/>
          <a:ext cx="50472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9240" y="3073320"/>
                    <a:ext cx="504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19"/>
          <p:cNvGrpSpPr/>
          <p:nvPr/>
        </p:nvGrpSpPr>
        <p:grpSpPr>
          <a:xfrm>
            <a:off x="6450120" y="2228760"/>
            <a:ext cx="2364840" cy="2383920"/>
            <a:chOff x="6450120" y="2228760"/>
            <a:chExt cx="2364840" cy="2383920"/>
          </a:xfrm>
        </p:grpSpPr>
        <p:sp>
          <p:nvSpPr>
            <p:cNvPr id="126" name="Oval 7"/>
            <p:cNvSpPr/>
            <p:nvPr/>
          </p:nvSpPr>
          <p:spPr>
            <a:xfrm>
              <a:off x="6450120" y="2676600"/>
              <a:ext cx="1752480" cy="175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7288200" y="351468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7326360" y="2719080"/>
              <a:ext cx="333360" cy="811080"/>
            </a:xfrm>
            <a:prstGeom prst="line">
              <a:avLst/>
            </a:prstGeom>
            <a:ln w="381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7369200" y="3571920"/>
              <a:ext cx="533160" cy="609480"/>
            </a:xfrm>
            <a:prstGeom prst="line">
              <a:avLst/>
            </a:prstGeom>
            <a:ln w="381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7659720" y="2743200"/>
              <a:ext cx="561960" cy="1414440"/>
            </a:xfrm>
            <a:custGeom>
              <a:avLst/>
              <a:gdLst/>
              <a:ahLst/>
              <a:rect l="l" t="t" r="r" b="b"/>
              <a:pathLst>
                <a:path w="354" h="891">
                  <a:moveTo>
                    <a:pt x="0" y="0"/>
                  </a:moveTo>
                  <a:cubicBezTo>
                    <a:pt x="25" y="12"/>
                    <a:pt x="50" y="24"/>
                    <a:pt x="81" y="45"/>
                  </a:cubicBezTo>
                  <a:cubicBezTo>
                    <a:pt x="112" y="66"/>
                    <a:pt x="159" y="98"/>
                    <a:pt x="189" y="126"/>
                  </a:cubicBezTo>
                  <a:cubicBezTo>
                    <a:pt x="219" y="154"/>
                    <a:pt x="240" y="179"/>
                    <a:pt x="261" y="216"/>
                  </a:cubicBezTo>
                  <a:cubicBezTo>
                    <a:pt x="282" y="253"/>
                    <a:pt x="301" y="310"/>
                    <a:pt x="315" y="351"/>
                  </a:cubicBezTo>
                  <a:cubicBezTo>
                    <a:pt x="329" y="392"/>
                    <a:pt x="336" y="428"/>
                    <a:pt x="342" y="459"/>
                  </a:cubicBezTo>
                  <a:cubicBezTo>
                    <a:pt x="348" y="490"/>
                    <a:pt x="354" y="510"/>
                    <a:pt x="351" y="540"/>
                  </a:cubicBezTo>
                  <a:cubicBezTo>
                    <a:pt x="348" y="570"/>
                    <a:pt x="334" y="603"/>
                    <a:pt x="324" y="639"/>
                  </a:cubicBezTo>
                  <a:cubicBezTo>
                    <a:pt x="314" y="675"/>
                    <a:pt x="298" y="729"/>
                    <a:pt x="288" y="756"/>
                  </a:cubicBezTo>
                  <a:cubicBezTo>
                    <a:pt x="278" y="783"/>
                    <a:pt x="271" y="786"/>
                    <a:pt x="261" y="801"/>
                  </a:cubicBezTo>
                  <a:cubicBezTo>
                    <a:pt x="251" y="816"/>
                    <a:pt x="237" y="831"/>
                    <a:pt x="225" y="846"/>
                  </a:cubicBezTo>
                  <a:cubicBezTo>
                    <a:pt x="213" y="861"/>
                    <a:pt x="199" y="879"/>
                    <a:pt x="189" y="891"/>
                  </a:cubicBezTo>
                </a:path>
              </a:pathLst>
            </a:custGeom>
            <a:noFill/>
            <a:ln w="1015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7531200" y="22287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3"/>
            <p:cNvSpPr/>
            <p:nvPr/>
          </p:nvSpPr>
          <p:spPr>
            <a:xfrm>
              <a:off x="7869240" y="4152960"/>
              <a:ext cx="3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7873920" y="416232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7602480" y="2690640"/>
              <a:ext cx="76320" cy="763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6807240" y="336240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7"/>
            <p:cNvSpPr/>
            <p:nvPr/>
          </p:nvSpPr>
          <p:spPr>
            <a:xfrm>
              <a:off x="7365960" y="3276720"/>
              <a:ext cx="88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110</a:t>
              </a:r>
              <a:r>
                <a:rPr b="1" lang="en-US" sz="2400" spc="-1" strike="noStrike">
                  <a:solidFill>
                    <a:srgbClr val="3333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 rot="3559800">
              <a:off x="7946280" y="2942640"/>
              <a:ext cx="88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10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21"/>
          <p:cNvSpPr/>
          <p:nvPr/>
        </p:nvSpPr>
        <p:spPr>
          <a:xfrm>
            <a:off x="3236760" y="239724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370480" y="237960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er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27"/>
          <p:cNvCxnSpPr/>
          <p:nvPr/>
        </p:nvCxnSpPr>
        <p:spPr>
          <a:xfrm flipH="1" rot="16200000">
            <a:off x="6607800" y="2349360"/>
            <a:ext cx="602280" cy="142452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1" name="Text Box 34"/>
          <p:cNvSpPr/>
          <p:nvPr/>
        </p:nvSpPr>
        <p:spPr>
          <a:xfrm>
            <a:off x="233280" y="303228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1593720" y="3048120"/>
            <a:ext cx="47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Give       is the diameter, find the value of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in the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37"/>
          <p:cNvCxnSpPr>
            <a:stCxn id="138" idx="0"/>
            <a:endCxn id="137" idx="2"/>
          </p:cNvCxnSpPr>
          <p:nvPr/>
        </p:nvCxnSpPr>
        <p:spPr>
          <a:xfrm flipH="1" rot="16200000">
            <a:off x="5778360" y="871560"/>
            <a:ext cx="891360" cy="3942360"/>
          </a:xfrm>
          <a:prstGeom prst="curvedConnector5">
            <a:avLst>
              <a:gd name="adj1" fmla="val -10868"/>
              <a:gd name="adj2" fmla="val 15296"/>
              <a:gd name="adj3" fmla="val -10868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pic>
        <p:nvPicPr>
          <p:cNvPr id="144" name="Picture 39" descr=""/>
          <p:cNvPicPr/>
          <p:nvPr/>
        </p:nvPicPr>
        <p:blipFill>
          <a:blip r:embed="rId3"/>
          <a:stretch/>
        </p:blipFill>
        <p:spPr>
          <a:xfrm>
            <a:off x="392040" y="3618000"/>
            <a:ext cx="3210120" cy="26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42"/>
          <p:cNvGraphicFramePr/>
          <p:nvPr/>
        </p:nvGraphicFramePr>
        <p:xfrm>
          <a:off x="3641760" y="4305240"/>
          <a:ext cx="5337000" cy="156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41760" y="4305240"/>
                    <a:ext cx="5337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297-BD74-4A56-B901-B67CE5234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0600" y="835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ind the measure of each ar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0" descr=""/>
          <p:cNvPicPr/>
          <p:nvPr/>
        </p:nvPicPr>
        <p:blipFill>
          <a:blip r:embed="rId1"/>
          <a:stretch/>
        </p:blipFill>
        <p:spPr>
          <a:xfrm>
            <a:off x="407880" y="2354400"/>
            <a:ext cx="3490920" cy="3506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1"/>
          <p:cNvSpPr/>
          <p:nvPr/>
        </p:nvSpPr>
        <p:spPr>
          <a:xfrm>
            <a:off x="3090960" y="1800360"/>
            <a:ext cx="54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x +10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x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x-14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730680" y="223344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x – 4 = 3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4138560" y="2627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x = 36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4394160" y="3076560"/>
            <a:ext cx="1365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2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09920" y="361476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= 4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= 3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+10 = 3(26) +10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2(26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– 14 = 2(26) – 1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1A37-AEDB-4CA6-84C8-87632623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9" name="Object 12"/>
          <p:cNvGraphicFramePr/>
          <p:nvPr/>
        </p:nvGraphicFramePr>
        <p:xfrm>
          <a:off x="349200" y="2635200"/>
          <a:ext cx="45338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635200"/>
                    <a:ext cx="4533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47680" y="1727280"/>
            <a:ext cx="86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scribed Angl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whose vertex lies on a circle and whose sides are chords of the circle (or one side tangent to the circ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3"/>
          <a:stretch/>
        </p:blipFill>
        <p:spPr>
          <a:xfrm>
            <a:off x="5234040" y="2452680"/>
            <a:ext cx="1473120" cy="1509840"/>
          </a:xfrm>
          <a:prstGeom prst="rect">
            <a:avLst/>
          </a:prstGeom>
          <a:ln w="0">
            <a:noFill/>
          </a:ln>
        </p:spPr>
      </p:pic>
      <p:sp>
        <p:nvSpPr>
          <p:cNvPr id="163" name="Oval 43"/>
          <p:cNvSpPr/>
          <p:nvPr/>
        </p:nvSpPr>
        <p:spPr>
          <a:xfrm>
            <a:off x="606600" y="4044960"/>
            <a:ext cx="167616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4"/>
          <p:cNvSpPr/>
          <p:nvPr/>
        </p:nvSpPr>
        <p:spPr>
          <a:xfrm>
            <a:off x="2746440" y="4132440"/>
            <a:ext cx="1676160" cy="1603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45"/>
          <p:cNvSpPr/>
          <p:nvPr/>
        </p:nvSpPr>
        <p:spPr>
          <a:xfrm>
            <a:off x="4776840" y="4118040"/>
            <a:ext cx="1676520" cy="1676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6"/>
          <p:cNvSpPr/>
          <p:nvPr/>
        </p:nvSpPr>
        <p:spPr>
          <a:xfrm>
            <a:off x="6873840" y="4119480"/>
            <a:ext cx="1676520" cy="1719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8"/>
          <p:cNvSpPr/>
          <p:nvPr/>
        </p:nvSpPr>
        <p:spPr>
          <a:xfrm flipH="1">
            <a:off x="2746440" y="4192560"/>
            <a:ext cx="1349280" cy="84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9"/>
          <p:cNvSpPr/>
          <p:nvPr/>
        </p:nvSpPr>
        <p:spPr>
          <a:xfrm flipH="1">
            <a:off x="941040" y="4049640"/>
            <a:ext cx="625320" cy="108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0"/>
          <p:cNvSpPr/>
          <p:nvPr/>
        </p:nvSpPr>
        <p:spPr>
          <a:xfrm flipH="1" flipV="1">
            <a:off x="942840" y="5124240"/>
            <a:ext cx="12448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1"/>
          <p:cNvSpPr/>
          <p:nvPr/>
        </p:nvSpPr>
        <p:spPr>
          <a:xfrm flipH="1" flipV="1">
            <a:off x="2790360" y="5006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2"/>
          <p:cNvSpPr/>
          <p:nvPr/>
        </p:nvSpPr>
        <p:spPr>
          <a:xfrm flipH="1">
            <a:off x="5640480" y="4168800"/>
            <a:ext cx="133200" cy="81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53"/>
          <p:cNvSpPr/>
          <p:nvPr/>
        </p:nvSpPr>
        <p:spPr>
          <a:xfrm flipH="1">
            <a:off x="1280520" y="4851360"/>
            <a:ext cx="7596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54"/>
          <p:cNvSpPr/>
          <p:nvPr/>
        </p:nvSpPr>
        <p:spPr>
          <a:xfrm flipH="1">
            <a:off x="3523680" y="4878360"/>
            <a:ext cx="7596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55"/>
          <p:cNvSpPr/>
          <p:nvPr/>
        </p:nvSpPr>
        <p:spPr>
          <a:xfrm flipH="1">
            <a:off x="5603760" y="4935600"/>
            <a:ext cx="76320" cy="759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56"/>
          <p:cNvSpPr/>
          <p:nvPr/>
        </p:nvSpPr>
        <p:spPr>
          <a:xfrm flipH="1">
            <a:off x="7675560" y="4979880"/>
            <a:ext cx="76320" cy="76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H="1">
            <a:off x="4951080" y="4981680"/>
            <a:ext cx="70956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8"/>
          <p:cNvSpPr/>
          <p:nvPr/>
        </p:nvSpPr>
        <p:spPr>
          <a:xfrm>
            <a:off x="8053560" y="4152960"/>
            <a:ext cx="446040" cy="102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9"/>
          <p:cNvSpPr/>
          <p:nvPr/>
        </p:nvSpPr>
        <p:spPr>
          <a:xfrm flipV="1">
            <a:off x="7737480" y="5165280"/>
            <a:ext cx="757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1020600" y="4716360"/>
            <a:ext cx="5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1"/>
          <p:cNvSpPr/>
          <p:nvPr/>
        </p:nvSpPr>
        <p:spPr>
          <a:xfrm>
            <a:off x="8101080" y="48751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2"/>
          <p:cNvSpPr/>
          <p:nvPr/>
        </p:nvSpPr>
        <p:spPr>
          <a:xfrm>
            <a:off x="3063960" y="4716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3"/>
          <p:cNvSpPr/>
          <p:nvPr/>
        </p:nvSpPr>
        <p:spPr>
          <a:xfrm>
            <a:off x="5213520" y="465120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4"/>
          <p:cNvSpPr/>
          <p:nvPr/>
        </p:nvSpPr>
        <p:spPr>
          <a:xfrm>
            <a:off x="593640" y="5786280"/>
            <a:ext cx="17305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5"/>
          <p:cNvSpPr/>
          <p:nvPr/>
        </p:nvSpPr>
        <p:spPr>
          <a:xfrm>
            <a:off x="4713120" y="5826240"/>
            <a:ext cx="18608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6"/>
          <p:cNvSpPr/>
          <p:nvPr/>
        </p:nvSpPr>
        <p:spPr>
          <a:xfrm>
            <a:off x="2995560" y="5784840"/>
            <a:ext cx="1236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7"/>
          <p:cNvSpPr/>
          <p:nvPr/>
        </p:nvSpPr>
        <p:spPr>
          <a:xfrm>
            <a:off x="7101000" y="5867280"/>
            <a:ext cx="1236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420840" y="3354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A0B5-5F5D-4C9F-8F66-BA1C2639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87200" y="1755720"/>
            <a:ext cx="85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cepted Ar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intercepts an arc if and only if each of the following conditions hol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6259680" y="3863880"/>
            <a:ext cx="2403360" cy="2465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262080" y="2568600"/>
            <a:ext cx="86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endpoints of the arc lie on the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ll points of the arc, except the endpoints, are in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ach side of the angle contains an endpoint of the a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392040" y="4578480"/>
          <a:ext cx="489132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4578480"/>
                    <a:ext cx="489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218-C6FB-460F-A413-151FC6E0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673200" y="876240"/>
            <a:ext cx="7657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cribed Angle Theor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343080" y="1714680"/>
            <a:ext cx="8513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n inscribed angle is equal to ½ the measure of the intercepted a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1"/>
          <p:cNvSpPr/>
          <p:nvPr/>
        </p:nvSpPr>
        <p:spPr>
          <a:xfrm>
            <a:off x="6627960" y="2419200"/>
            <a:ext cx="175248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2"/>
          <p:cNvSpPr/>
          <p:nvPr/>
        </p:nvSpPr>
        <p:spPr>
          <a:xfrm>
            <a:off x="8058240" y="3948120"/>
            <a:ext cx="7596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 flipV="1">
            <a:off x="6638760" y="2427120"/>
            <a:ext cx="1189080" cy="10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6570720" y="3429000"/>
            <a:ext cx="1461960" cy="47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25"/>
          <p:cNvSpPr/>
          <p:nvPr/>
        </p:nvSpPr>
        <p:spPr>
          <a:xfrm>
            <a:off x="7843680" y="2494080"/>
            <a:ext cx="561960" cy="1414440"/>
          </a:xfrm>
          <a:custGeom>
            <a:avLst/>
            <a:gdLst/>
            <a:ahLst/>
            <a:rect l="l" t="t" r="r" b="b"/>
            <a:pathLst>
              <a:path w="354" h="891">
                <a:moveTo>
                  <a:pt x="0" y="0"/>
                </a:moveTo>
                <a:cubicBezTo>
                  <a:pt x="25" y="12"/>
                  <a:pt x="50" y="24"/>
                  <a:pt x="81" y="45"/>
                </a:cubicBezTo>
                <a:cubicBezTo>
                  <a:pt x="112" y="66"/>
                  <a:pt x="159" y="98"/>
                  <a:pt x="189" y="126"/>
                </a:cubicBezTo>
                <a:cubicBezTo>
                  <a:pt x="219" y="154"/>
                  <a:pt x="240" y="179"/>
                  <a:pt x="261" y="216"/>
                </a:cubicBezTo>
                <a:cubicBezTo>
                  <a:pt x="282" y="253"/>
                  <a:pt x="301" y="310"/>
                  <a:pt x="315" y="351"/>
                </a:cubicBezTo>
                <a:cubicBezTo>
                  <a:pt x="329" y="392"/>
                  <a:pt x="336" y="428"/>
                  <a:pt x="342" y="459"/>
                </a:cubicBezTo>
                <a:cubicBezTo>
                  <a:pt x="348" y="490"/>
                  <a:pt x="354" y="510"/>
                  <a:pt x="351" y="540"/>
                </a:cubicBezTo>
                <a:cubicBezTo>
                  <a:pt x="348" y="570"/>
                  <a:pt x="334" y="603"/>
                  <a:pt x="324" y="639"/>
                </a:cubicBezTo>
                <a:cubicBezTo>
                  <a:pt x="314" y="675"/>
                  <a:pt x="298" y="729"/>
                  <a:pt x="288" y="756"/>
                </a:cubicBezTo>
                <a:cubicBezTo>
                  <a:pt x="278" y="783"/>
                  <a:pt x="271" y="786"/>
                  <a:pt x="261" y="801"/>
                </a:cubicBezTo>
                <a:cubicBezTo>
                  <a:pt x="251" y="816"/>
                  <a:pt x="237" y="831"/>
                  <a:pt x="225" y="846"/>
                </a:cubicBezTo>
                <a:cubicBezTo>
                  <a:pt x="213" y="861"/>
                  <a:pt x="199" y="879"/>
                  <a:pt x="189" y="891"/>
                </a:cubicBezTo>
              </a:path>
            </a:pathLst>
          </a:custGeom>
          <a:noFill/>
          <a:ln w="1015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7905600" y="21574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8161200" y="383544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6610320" y="3408480"/>
            <a:ext cx="7632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7813800" y="2455920"/>
            <a:ext cx="7596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1"/>
          <p:cNvSpPr/>
          <p:nvPr/>
        </p:nvSpPr>
        <p:spPr>
          <a:xfrm>
            <a:off x="6818400" y="3189240"/>
            <a:ext cx="6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55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2"/>
          <p:cNvSpPr/>
          <p:nvPr/>
        </p:nvSpPr>
        <p:spPr>
          <a:xfrm rot="3559800">
            <a:off x="8078760" y="26377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959360" y="2335320"/>
            <a:ext cx="23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 rot="6529200">
            <a:off x="6177240" y="2587680"/>
            <a:ext cx="541440" cy="1009800"/>
          </a:xfrm>
          <a:custGeom>
            <a:avLst/>
            <a:gdLst/>
            <a:ahLst/>
            <a:rect l="l" t="t" r="r" b="b"/>
            <a:pathLst>
              <a:path w="306" h="549">
                <a:moveTo>
                  <a:pt x="0" y="549"/>
                </a:moveTo>
                <a:cubicBezTo>
                  <a:pt x="78" y="525"/>
                  <a:pt x="156" y="502"/>
                  <a:pt x="207" y="441"/>
                </a:cubicBezTo>
                <a:cubicBezTo>
                  <a:pt x="258" y="380"/>
                  <a:pt x="306" y="253"/>
                  <a:pt x="306" y="180"/>
                </a:cubicBezTo>
                <a:cubicBezTo>
                  <a:pt x="306" y="107"/>
                  <a:pt x="223" y="30"/>
                  <a:pt x="207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5"/>
          <p:cNvSpPr/>
          <p:nvPr/>
        </p:nvSpPr>
        <p:spPr>
          <a:xfrm>
            <a:off x="6953400" y="4470480"/>
            <a:ext cx="21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8002440" y="3408480"/>
            <a:ext cx="622440" cy="1104840"/>
          </a:xfrm>
          <a:custGeom>
            <a:avLst/>
            <a:gdLst/>
            <a:ahLst/>
            <a:rect l="l" t="t" r="r" b="b"/>
            <a:pathLst>
              <a:path w="306" h="549">
                <a:moveTo>
                  <a:pt x="0" y="549"/>
                </a:moveTo>
                <a:cubicBezTo>
                  <a:pt x="78" y="525"/>
                  <a:pt x="156" y="502"/>
                  <a:pt x="207" y="441"/>
                </a:cubicBezTo>
                <a:cubicBezTo>
                  <a:pt x="258" y="380"/>
                  <a:pt x="306" y="253"/>
                  <a:pt x="306" y="180"/>
                </a:cubicBezTo>
                <a:cubicBezTo>
                  <a:pt x="306" y="107"/>
                  <a:pt x="223" y="30"/>
                  <a:pt x="207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12"/>
          <p:cNvSpPr/>
          <p:nvPr/>
        </p:nvSpPr>
        <p:spPr>
          <a:xfrm>
            <a:off x="557280" y="5022720"/>
            <a:ext cx="85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gle formed by a chord and a tangent can be considered an inscribed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113" descr=""/>
          <p:cNvPicPr/>
          <p:nvPr/>
        </p:nvPicPr>
        <p:blipFill>
          <a:blip r:embed="rId1"/>
          <a:stretch/>
        </p:blipFill>
        <p:spPr>
          <a:xfrm>
            <a:off x="723960" y="2492280"/>
            <a:ext cx="3824280" cy="2643120"/>
          </a:xfrm>
          <a:prstGeom prst="rect">
            <a:avLst/>
          </a:prstGeom>
          <a:ln w="0">
            <a:noFill/>
          </a:ln>
        </p:spPr>
      </p:pic>
      <p:cxnSp>
        <p:nvCxnSpPr>
          <p:cNvPr id="217" name="AutoShape 1115"/>
          <p:cNvCxnSpPr>
            <a:stCxn id="216" idx="1"/>
            <a:endCxn id="215" idx="1"/>
          </p:cNvCxnSpPr>
          <p:nvPr/>
        </p:nvCxnSpPr>
        <p:spPr>
          <a:xfrm flipV="1" rot="10800000">
            <a:off x="556560" y="3813840"/>
            <a:ext cx="167040" cy="1619640"/>
          </a:xfrm>
          <a:prstGeom prst="bentConnector3">
            <a:avLst>
              <a:gd name="adj1" fmla="val 2375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18" name="Object 1116"/>
          <p:cNvGraphicFramePr/>
          <p:nvPr/>
        </p:nvGraphicFramePr>
        <p:xfrm>
          <a:off x="3670200" y="5351400"/>
          <a:ext cx="223992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1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0200" y="5351400"/>
                    <a:ext cx="22399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0F45-75C8-4FC2-98C9-387D1CBF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276120" y="474840"/>
            <a:ext cx="865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fig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4586400" y="1733400"/>
            <a:ext cx="0" cy="45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33"/>
          <p:cNvGraphicFramePr/>
          <p:nvPr/>
        </p:nvGraphicFramePr>
        <p:xfrm>
          <a:off x="4678200" y="3884760"/>
          <a:ext cx="3773520" cy="24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3884760"/>
                    <a:ext cx="3773520" cy="24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Group 36"/>
          <p:cNvGrpSpPr/>
          <p:nvPr/>
        </p:nvGrpSpPr>
        <p:grpSpPr>
          <a:xfrm>
            <a:off x="5854680" y="1690560"/>
            <a:ext cx="3011400" cy="2655000"/>
            <a:chOff x="5854680" y="1690560"/>
            <a:chExt cx="3011400" cy="2655000"/>
          </a:xfrm>
        </p:grpSpPr>
        <p:sp>
          <p:nvSpPr>
            <p:cNvPr id="227" name="AutoShape 35"/>
            <p:cNvSpPr/>
            <p:nvPr/>
          </p:nvSpPr>
          <p:spPr>
            <a:xfrm>
              <a:off x="5854680" y="1690560"/>
              <a:ext cx="301140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6146640" y="1750680"/>
              <a:ext cx="2306880" cy="230508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 flipH="1">
              <a:off x="6146640" y="1931760"/>
              <a:ext cx="1773360" cy="10476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39"/>
            <p:cNvSpPr/>
            <p:nvPr/>
          </p:nvSpPr>
          <p:spPr>
            <a:xfrm>
              <a:off x="6146640" y="2979360"/>
              <a:ext cx="2014560" cy="68436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0"/>
            <p:cNvSpPr/>
            <p:nvPr/>
          </p:nvSpPr>
          <p:spPr>
            <a:xfrm flipH="1">
              <a:off x="6982920" y="2626920"/>
              <a:ext cx="1428840" cy="13795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1"/>
            <p:cNvSpPr/>
            <p:nvPr/>
          </p:nvSpPr>
          <p:spPr>
            <a:xfrm flipH="1">
              <a:off x="6983280" y="1931760"/>
              <a:ext cx="936720" cy="20746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2"/>
            <p:cNvSpPr/>
            <p:nvPr/>
          </p:nvSpPr>
          <p:spPr>
            <a:xfrm>
              <a:off x="854316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3"/>
            <p:cNvSpPr/>
            <p:nvPr/>
          </p:nvSpPr>
          <p:spPr>
            <a:xfrm>
              <a:off x="8646840" y="29682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44"/>
            <p:cNvSpPr/>
            <p:nvPr/>
          </p:nvSpPr>
          <p:spPr>
            <a:xfrm>
              <a:off x="8240760" y="20221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45"/>
            <p:cNvSpPr/>
            <p:nvPr/>
          </p:nvSpPr>
          <p:spPr>
            <a:xfrm>
              <a:off x="8435520" y="20030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46"/>
            <p:cNvSpPr/>
            <p:nvPr/>
          </p:nvSpPr>
          <p:spPr>
            <a:xfrm>
              <a:off x="7254000" y="345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7"/>
            <p:cNvSpPr/>
            <p:nvPr/>
          </p:nvSpPr>
          <p:spPr>
            <a:xfrm>
              <a:off x="7357680" y="34318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6467760" y="28382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9"/>
            <p:cNvSpPr/>
            <p:nvPr/>
          </p:nvSpPr>
          <p:spPr>
            <a:xfrm>
              <a:off x="6662520" y="28177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7275600" y="2877840"/>
              <a:ext cx="489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7899480" y="1912680"/>
              <a:ext cx="5076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7999560" y="1690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6126120" y="295884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5924160" y="2908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55"/>
            <p:cNvSpPr/>
            <p:nvPr/>
          </p:nvSpPr>
          <p:spPr>
            <a:xfrm>
              <a:off x="8140680" y="36432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8242200" y="37144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57"/>
            <p:cNvSpPr/>
            <p:nvPr/>
          </p:nvSpPr>
          <p:spPr>
            <a:xfrm>
              <a:off x="8393040" y="260640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8493120" y="2455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59"/>
            <p:cNvSpPr/>
            <p:nvPr/>
          </p:nvSpPr>
          <p:spPr>
            <a:xfrm>
              <a:off x="6962760" y="398592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6872040" y="40557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62"/>
          <p:cNvGrpSpPr/>
          <p:nvPr/>
        </p:nvGrpSpPr>
        <p:grpSpPr>
          <a:xfrm>
            <a:off x="442800" y="1646280"/>
            <a:ext cx="2757240" cy="2886480"/>
            <a:chOff x="442800" y="1646280"/>
            <a:chExt cx="2757240" cy="2886480"/>
          </a:xfrm>
        </p:grpSpPr>
        <p:sp>
          <p:nvSpPr>
            <p:cNvPr id="253" name="AutoShape 61"/>
            <p:cNvSpPr/>
            <p:nvPr/>
          </p:nvSpPr>
          <p:spPr>
            <a:xfrm>
              <a:off x="442800" y="1646280"/>
              <a:ext cx="2757240" cy="28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63"/>
            <p:cNvSpPr/>
            <p:nvPr/>
          </p:nvSpPr>
          <p:spPr>
            <a:xfrm>
              <a:off x="741240" y="1873440"/>
              <a:ext cx="2355840" cy="235404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4"/>
            <p:cNvSpPr/>
            <p:nvPr/>
          </p:nvSpPr>
          <p:spPr>
            <a:xfrm flipH="1">
              <a:off x="740880" y="2057400"/>
              <a:ext cx="1811160" cy="10699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>
              <a:off x="741240" y="3127320"/>
              <a:ext cx="2057400" cy="7002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6"/>
            <p:cNvSpPr/>
            <p:nvPr/>
          </p:nvSpPr>
          <p:spPr>
            <a:xfrm flipH="1">
              <a:off x="1595160" y="3837240"/>
              <a:ext cx="1193760" cy="33948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7"/>
            <p:cNvSpPr/>
            <p:nvPr/>
          </p:nvSpPr>
          <p:spPr>
            <a:xfrm flipH="1">
              <a:off x="1594800" y="2057400"/>
              <a:ext cx="957240" cy="211932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8"/>
            <p:cNvSpPr/>
            <p:nvPr/>
          </p:nvSpPr>
          <p:spPr>
            <a:xfrm>
              <a:off x="1544400" y="1924200"/>
              <a:ext cx="1244520" cy="191304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9"/>
            <p:cNvSpPr/>
            <p:nvPr/>
          </p:nvSpPr>
          <p:spPr>
            <a:xfrm>
              <a:off x="1544400" y="1924200"/>
              <a:ext cx="1008000" cy="133200"/>
            </a:xfrm>
            <a:prstGeom prst="line">
              <a:avLst/>
            </a:prstGeom>
            <a:ln w="30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0"/>
            <p:cNvSpPr/>
            <p:nvPr/>
          </p:nvSpPr>
          <p:spPr>
            <a:xfrm>
              <a:off x="1780200" y="20066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1"/>
            <p:cNvSpPr/>
            <p:nvPr/>
          </p:nvSpPr>
          <p:spPr>
            <a:xfrm>
              <a:off x="1886400" y="19861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2"/>
            <p:cNvSpPr/>
            <p:nvPr/>
          </p:nvSpPr>
          <p:spPr>
            <a:xfrm>
              <a:off x="1780200" y="3868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3"/>
            <p:cNvSpPr/>
            <p:nvPr/>
          </p:nvSpPr>
          <p:spPr>
            <a:xfrm>
              <a:off x="1886400" y="38480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74"/>
            <p:cNvSpPr/>
            <p:nvPr/>
          </p:nvSpPr>
          <p:spPr>
            <a:xfrm>
              <a:off x="1068840" y="29829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75"/>
            <p:cNvSpPr/>
            <p:nvPr/>
          </p:nvSpPr>
          <p:spPr>
            <a:xfrm>
              <a:off x="1269000" y="29624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76"/>
            <p:cNvSpPr/>
            <p:nvPr/>
          </p:nvSpPr>
          <p:spPr>
            <a:xfrm>
              <a:off x="1893600" y="302436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77"/>
            <p:cNvSpPr/>
            <p:nvPr/>
          </p:nvSpPr>
          <p:spPr>
            <a:xfrm>
              <a:off x="2531880" y="203688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78"/>
            <p:cNvSpPr/>
            <p:nvPr/>
          </p:nvSpPr>
          <p:spPr>
            <a:xfrm>
              <a:off x="2634840" y="18115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79"/>
            <p:cNvSpPr/>
            <p:nvPr/>
          </p:nvSpPr>
          <p:spPr>
            <a:xfrm>
              <a:off x="720360" y="3106800"/>
              <a:ext cx="51120" cy="52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14080" y="3056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81"/>
            <p:cNvSpPr/>
            <p:nvPr/>
          </p:nvSpPr>
          <p:spPr>
            <a:xfrm>
              <a:off x="2777760" y="3807000"/>
              <a:ext cx="525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2850840" y="38577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83"/>
            <p:cNvSpPr/>
            <p:nvPr/>
          </p:nvSpPr>
          <p:spPr>
            <a:xfrm>
              <a:off x="2768400" y="3816360"/>
              <a:ext cx="50760" cy="525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84"/>
            <p:cNvSpPr/>
            <p:nvPr/>
          </p:nvSpPr>
          <p:spPr>
            <a:xfrm>
              <a:off x="1574640" y="4156200"/>
              <a:ext cx="50760" cy="522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1482120" y="4227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86"/>
            <p:cNvSpPr/>
            <p:nvPr/>
          </p:nvSpPr>
          <p:spPr>
            <a:xfrm>
              <a:off x="1523880" y="190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7"/>
            <p:cNvSpPr/>
            <p:nvPr/>
          </p:nvSpPr>
          <p:spPr>
            <a:xfrm>
              <a:off x="1326240" y="16970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9" name="Object 93"/>
          <p:cNvGraphicFramePr/>
          <p:nvPr/>
        </p:nvGraphicFramePr>
        <p:xfrm>
          <a:off x="690480" y="4334040"/>
          <a:ext cx="366552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9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0480" y="4334040"/>
                    <a:ext cx="3665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5: Angle Form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D09-054A-4694-86C3-6058871A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666720" y="45252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angle inscribed in a semicircle is a right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2414520" y="2543040"/>
            <a:ext cx="3814920" cy="3714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891040" y="53769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2957040" y="3143160"/>
            <a:ext cx="2900520" cy="23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514600" y="27003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367160" y="4281480"/>
            <a:ext cx="42840" cy="7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786280" y="2743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 flipH="1">
            <a:off x="2442960" y="3143160"/>
            <a:ext cx="500040" cy="158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0"/>
          <p:cNvSpPr/>
          <p:nvPr/>
        </p:nvSpPr>
        <p:spPr>
          <a:xfrm flipH="1" flipV="1">
            <a:off x="2409480" y="4738320"/>
            <a:ext cx="3414600" cy="77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2004840" y="45482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533680" y="4348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7:46:00Z</dcterms:created>
  <dc:creator>ed_puccinelli</dc:creator>
  <dc:description/>
  <dc:language>en-US</dc:language>
  <cp:lastModifiedBy>chmorgan</cp:lastModifiedBy>
  <dcterms:modified xsi:type="dcterms:W3CDTF">2013-04-09T19:19:57Z</dcterms:modified>
  <cp:revision>71</cp:revision>
  <dc:subject/>
  <dc:title>9-5 Inscribed Angles</dc:title>
</cp:coreProperties>
</file>